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94CC-6F88-41ED-83A8-0CE18EB5B6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EC8-6347-473B-9CAF-5FC7AC79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2FB-50E0-4450-8E98-43983D43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AF4-E6EA-420D-AA15-CD933D08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F76-FFD9-4131-AB5B-E492D409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13F3-FB37-48A1-A829-93951A91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EF00-C68B-4AAE-9F16-758B8A01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0E3E-0AC6-4BC8-A2BD-E3187432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5AC7-B480-4C0E-802E-F9D5663C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B065-5AB3-40BA-B11C-1D9A6AE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B6C2-EEDB-4BC7-8985-5D355578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6D58-EE85-4C48-AFA0-E62EAA71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FBD-4DBC-4FEA-9CE5-BA42932C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9CD-5E62-4E6D-BEBC-7EDEAA9B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5382-A9EB-4AE2-A3C7-272D81ED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1A72-83B1-42D5-88B6-13D8BCA0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EC5C-7C79-4661-8329-019E3AF7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0AF5-E2F8-4A12-95F2-67255141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AD8-43EC-4648-B4C7-B666D7EC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68C-3583-43D9-B9BC-291A1E0D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E82-B67D-428C-90AF-3DB98523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B1B-B7CE-489A-A33A-6469E08A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4DE-7C7D-44E5-8B7E-8CC39D22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0E8-4DBD-4437-B7C5-22BE6D4F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254-7948-405F-B0DD-DCB1639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3B47-6244-4DA3-BC37-8612554ECF0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BB22-DA80-4636-BEA5-FDBE04DE577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meo and Julie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Brief 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written by Shakespeare in 1594 or 1595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an experimental stage piece, featuring several radical departures from long-standing conven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609480"/>
            <a:ext cx="86104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Lord and Lady Montague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Romeo’s par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althasar and Abram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servants to the Montagu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apul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Lord and Lady Capule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paren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urs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attenda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ybal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cousin to Juli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ampson and Gregory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servants to the Capule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Very Brief Plot 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6:33:37Z</dcterms:created>
  <dc:creator>BCC/Microsoft Campus Agreement #2218996</dc:creator>
  <dc:description/>
  <dc:language>en-US</dc:language>
  <cp:lastModifiedBy>RomaK</cp:lastModifiedBy>
  <dcterms:modified xsi:type="dcterms:W3CDTF">2015-09-04T10:38:22Z</dcterms:modified>
  <cp:revision>8</cp:revision>
  <dc:subject/>
  <dc:title>Romeo and Juliet</dc:title>
</cp:coreProperties>
</file>